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187-D8A0-4DF9-B0E4-20A9EEF9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E83-A6E7-4A52-9EBD-E37C7F28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BC2-AE8C-4A2B-B460-0E0A38E7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DA7-D532-4635-810A-41C72FF3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B669-42CC-4D9D-89F2-3425036C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E032-98B9-42AC-BFB6-88EB8D6F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00E4-1F1B-4530-98A6-B3ACDA59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9B05-C22D-456A-88A1-3590DC45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8E3A-ED62-4237-AF22-FD06F3ED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04FC-4B00-4A7A-984D-26C6D136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5593-8245-4489-8845-94A4C530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DA3-E027-4E88-B325-28F993FF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4613-08A4-4BFA-9FB4-2BC23942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934E-CA69-4840-ACC4-BCD5D2C5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B712-46FD-4E4E-AF5F-E7CACB06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3C61-FAB2-46EF-B333-08DDC211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3DC9-5DB0-4466-8737-4DA5332C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1A901-5F00-4175-B1C0-E45AF267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8996-C0F9-4BBF-B4B8-23D83805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BD30-1015-4D4A-8E39-F3B7B729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33F5-D6C1-4C78-A6CF-7E37C470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8EC1-1FF9-4ED5-806E-B68E858C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5E6-58DA-44C0-A0B7-817A5FF0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482C-C7FE-45A1-9EFC-6BE7B416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8123-92C4-476A-8600-1DB8DB42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6C62-12AD-4BAF-9354-5481CC0E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576D-BEE6-44F4-8329-8B84816F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2CC19-2A9B-4622-B419-51C48412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272F-3D99-46C2-BFA0-BEA7F3EC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0CF5-F262-4949-9207-34F7FC42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376C-3097-42F7-A88D-C34C09E4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7251-D63F-43F8-8E84-CBA6DE68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84A3-A016-4BB6-8B16-55E04941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349-6869-4CAE-BE32-C684600B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BC68-FEA0-47F6-8632-150CEB86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5ABD0-0A6C-46ED-BD7D-311C88A4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470A-B447-458C-94D0-C8279EB1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54FEE-7632-4488-9147-FFA1F409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8703-4C66-421B-8DEA-DAC212C5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E607-7A13-4D02-8233-AFE72122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6883B-B883-4DD0-9C5A-D5B0898A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19D6F-D3B6-4A83-8B1C-9C67B70B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9382D-B221-4463-B5AA-F548DD90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CFD43-7D10-405B-A181-4D45C4FC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724-C6EB-4D73-B243-31999593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2F7FE-819A-490C-8E75-E5714DD4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AD7EB-AD7C-469A-9F90-3F810FAF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DD4D1-7770-400D-AE9E-164985C9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CA898-1288-46F8-A232-4628BF0F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2859-DBFF-4FDE-9645-9ECAEA8D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182D7-7A14-48FD-AD96-A177147E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52B25-414F-4F91-95A1-7673F843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B85B2-1D51-4A9A-99D4-B1358428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F050A-7896-4E5F-9F57-99E86582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FCEFF-6FD6-4E73-8BBE-BB1A21F1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273-15F8-46BE-B3AB-8BEB8C15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80829-E6B1-4613-A554-D8107D88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BE0D8-9824-4C51-8D07-AF88F793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1325A-CEE4-47F0-958F-AB5D2442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906DB-5C13-45C1-8DF5-11A5F117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463C5-0DE4-4567-A51E-A1D5514D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C3356-6804-4DD1-942B-ADA960E9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ADF87-A8F6-4D7F-A4FC-67EDA466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F5C3D-44ED-4993-A6E9-3BC6260B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86C7C-C777-477B-AD03-25663592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67E56-A62A-4F93-A80D-AD8ED019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372-1248-4222-99D3-5F497882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801CA-6B7E-4DDA-B8B0-C19850D0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B3E16-BD73-4C74-B0E8-6BA8CFC9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4B5B0-E9ED-4FE0-9D02-B971FF68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EA3C7-1954-4843-AB48-EA0477DD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414FD-8471-46CB-9ECE-62ECB286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0774-7632-45FD-A148-B5795E39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11896-FAF0-4FD7-8C2E-31B3865D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1FD51-428A-4A7A-B26F-C7A0AF89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1C8E9-98D6-4E53-9DD6-BACFBBA5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025CB-EE94-4478-8FA8-729CE6C8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7BA-4A65-4164-8D0D-9B848E8F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AEB72-E5F2-4D8A-AF99-EC5A3510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A5543-DF6F-4714-B6AE-807BBD94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4D021-39FB-4D64-8AB1-EF9BF879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1C80F-BA87-4695-85CA-4B6582CC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80A6F-443B-4CE4-8551-AB6ED5A3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6A2FD-6A72-4C46-88AE-9AC2507F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F5B3F-E717-472A-A449-9ACAA97D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221D6-B6A0-4E5A-8DE8-AD8C9BC9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FCB05-548B-4F40-B841-7A001DEE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A2381-EDD1-4676-8E9A-8060D8B2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3E1-A0F0-47C1-931D-CC9C118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59C12-7BB2-4660-9757-25C3D6E5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37CAA-4605-4B16-BB32-EE0AEF2B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87D60-F2CE-409A-A377-3F56A6E6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F1679-CCFC-4658-813C-9A6D336E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ED982-59B6-4866-996A-00B0EC6E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A53EC-DF46-4827-9C83-A4A85FEE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14FC7-40F0-4B98-97DD-D89B3515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0D57-CBE1-4FEE-B71C-29C4F39720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B8D9-1A3F-4AE1-B4D7-D5575169F8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B7C7-638A-4EDD-BFF6-CE8A59BAD4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51B8-CCEC-49B9-A823-1ACA9712E2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5E64-E5D3-45BA-92D6-80F5E88848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12D1-167E-4B4F-8B17-25A9D7CA50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F95A-EE68-4BA3-A7E9-BDE0E99D1B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5FE2-7C0A-4273-B927-78B396C266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47920" y="1752480"/>
            <a:ext cx="72388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3840" indent="-9144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Food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Clothing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Shelter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Safety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447920" y="1752480"/>
            <a:ext cx="72388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Friendship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elong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Lov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elf-esteem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xcitemen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elf Express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609120" y="1371240"/>
            <a:ext cx="800100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ge 7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3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4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5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6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7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8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9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371600" y="1371240"/>
            <a:ext cx="7238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ge 7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1. foo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2. self-express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3. foo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4. energ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5. knowledge, food, etc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6. Self express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7. safet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8. belonging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9. belonging, self-express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914400" y="762120"/>
          <a:ext cx="7238880" cy="518616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75816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terial 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Physical Objec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-material 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Language, beliefs, ideas, et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944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Straight Connector 5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Straight Connector 7"/>
          <p:cNvSpPr/>
          <p:nvPr/>
        </p:nvSpPr>
        <p:spPr>
          <a:xfrm>
            <a:off x="4267080" y="685800"/>
            <a:ext cx="76320" cy="480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ulture is the way people live together. It includes response to physical environment, history, economics, politics, and social life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Anthropologists are scientists who study human characteristics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ultural diversity refers to the variety and the differences between culture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6840" y="1444320"/>
            <a:ext cx="48769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i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munity organiz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-operative wor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lklo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olmak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isi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33760" y="1444680"/>
            <a:ext cx="33526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airsty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spita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using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ok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inship group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rri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altim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ye colo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ating with chopstick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Values and tradition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ong finger nail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ngernail polish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chool rule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 keen sense of hearing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ye colo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ating with chopstick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Values and tradition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ong finger nail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ngernail polish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chool rule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 keen sense of hearing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Meeting a person’s needs and wants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00:23:23Z</dcterms:created>
  <dc:creator>ladmin</dc:creator>
  <dc:description/>
  <dc:language>en-US</dc:language>
  <cp:lastModifiedBy>Terry, Sean J. (ASD-E)</cp:lastModifiedBy>
  <dcterms:modified xsi:type="dcterms:W3CDTF">2015-11-18T02:51:27Z</dcterms:modified>
  <cp:revision>11</cp:revision>
  <dc:subject/>
  <dc:title>PowerPoint Presentation</dc:title>
</cp:coreProperties>
</file>